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0696-1DE6-4059-AE03-97E8CE7F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CC77-AA89-41E2-A919-E87C5618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7A2D-0C86-488B-A785-F5CFEE41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D839-3CAF-45D9-8EC6-DDD4D5E30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14EB-8C17-4852-A461-6D0ACE03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9DBA-0749-429C-AFCF-B776C532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AA9A-2233-48EB-A84E-0E3018E8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BC29-44D9-45B4-9816-534E743D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4462-8A90-4372-AE73-B29F670E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EA80-F722-4ED1-8362-289D3D60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6CBF-E5B7-46B7-8E89-C704CE28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2903-E5AB-453F-8D4F-4E9F6F95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82F4-16BF-49DA-8DA7-489ABCD228E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47680" y="2276640"/>
            <a:ext cx="864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كمة الله تعالى في خلق هذا الكون البالغ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3"/>
          <a:stretch/>
        </p:blipFill>
        <p:spPr>
          <a:xfrm>
            <a:off x="684360" y="907920"/>
            <a:ext cx="82040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179280" y="2349360"/>
            <a:ext cx="864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رياح : لها فائدة في التلقيح بين النبات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ريح : فيها عذاب ونق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3"/>
          <a:stretch/>
        </p:blipFill>
        <p:spPr>
          <a:xfrm>
            <a:off x="398520" y="907920"/>
            <a:ext cx="845640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0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"/>
          <p:cNvPicPr/>
          <p:nvPr/>
        </p:nvPicPr>
        <p:blipFill>
          <a:blip r:embed="rId3"/>
          <a:stretch/>
        </p:blipFill>
        <p:spPr>
          <a:xfrm>
            <a:off x="357120" y="1604880"/>
            <a:ext cx="84297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250920" y="4869000"/>
            <a:ext cx="8569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خلق الله الجبال لاستقرار الأرض وعدم اضطراب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كثرة خيرات الأرض واحتواؤها على كافة أسباب الحي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رسال الرياح تلقح النبات والسح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1" descr=""/>
          <p:cNvPicPr/>
          <p:nvPr/>
        </p:nvPicPr>
        <p:blipFill>
          <a:blip r:embed="rId3"/>
          <a:stretch/>
        </p:blipFill>
        <p:spPr>
          <a:xfrm>
            <a:off x="3276720" y="981000"/>
            <a:ext cx="5682960" cy="503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"/>
          <p:cNvPicPr/>
          <p:nvPr/>
        </p:nvPicPr>
        <p:blipFill>
          <a:blip r:embed="rId4"/>
          <a:stretch/>
        </p:blipFill>
        <p:spPr>
          <a:xfrm>
            <a:off x="1212840" y="2276640"/>
            <a:ext cx="7686720" cy="1009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5"/>
          <a:stretch/>
        </p:blipFill>
        <p:spPr>
          <a:xfrm>
            <a:off x="1763640" y="4221000"/>
            <a:ext cx="7124760" cy="51444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250920" y="335772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يصرفوا العبادة له وحده دون سوا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عنوان 1"/>
          <p:cNvSpPr/>
          <p:nvPr/>
        </p:nvSpPr>
        <p:spPr>
          <a:xfrm>
            <a:off x="324000" y="155736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شهب تحرق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91328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110"/>
          <a:stretch/>
        </p:blipFill>
        <p:spPr>
          <a:xfrm>
            <a:off x="250920" y="2276640"/>
            <a:ext cx="862164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8353440" cy="2793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132000" y="4594320"/>
            <a:ext cx="34927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47680" y="1773360"/>
            <a:ext cx="8640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ذكر صفات القرآن الكريم ذكر هنا آياته في الكو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1542960" y="907920"/>
            <a:ext cx="73454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108000" y="977760"/>
            <a:ext cx="885672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1" descr=""/>
          <p:cNvPicPr/>
          <p:nvPr/>
        </p:nvPicPr>
        <p:blipFill>
          <a:blip r:embed="rId1"/>
          <a:stretch/>
        </p:blipFill>
        <p:spPr>
          <a:xfrm>
            <a:off x="250920" y="2009880"/>
            <a:ext cx="8615160" cy="4587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12600" y="907920"/>
            <a:ext cx="9144000" cy="76356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2843280" y="1089000"/>
            <a:ext cx="45162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آيات الله سبحانه في الكو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468936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سطنا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95280" y="533700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يستطيعوا العيش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395280" y="595008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سب المصلح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3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مظاهر قدرة الله تعالى في خلق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سماء ومنازل النجوم والكواك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98440" y="2060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سعي الشياطين إلى استراق السمع لمعرفة شيء من أمور غائب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ستغلاله في إضلال بني آد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7040" y="2870280"/>
            <a:ext cx="8666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خير الله تعالى للشهب وجعلها حرساً للسماء من مردة الشياط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ئلا يستمعوا إلى الملأ الأع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66760" y="3664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ضعف الشياطين وعدم قدرتها على حماية أنفسها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شهب المحرق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sp>
        <p:nvSpPr>
          <p:cNvPr id="66" name="عنوان 1"/>
          <p:cNvSpPr/>
          <p:nvPr/>
        </p:nvSpPr>
        <p:spPr>
          <a:xfrm>
            <a:off x="250920" y="416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عظيم قدرة الله تعالى في خلق الأرض وتهيئته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يتمكن الناس من العيش عل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672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خلق الله الجبا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ستقرار الأرض وعدم اضطرا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5175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ثرة خيرات الأرض واحتواؤها على كافة أسباب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يا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568008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ذكير الإنسان إلى أن الرزاق الحقيقي هو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6183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رة الله تعالى على إيجاد الأشياء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د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ي إيجاد الله تعالى الأشياء بقدر معلو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ة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31T18:43:28Z</dcterms:modified>
  <cp:revision>1862</cp:revision>
  <dc:subject/>
  <dc:title>عرض تقديمي في PowerPoint</dc:title>
</cp:coreProperties>
</file>